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whoosh.wav" ContentType="audio/x-wav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BB4F-4818-4DDE-AA40-AEE8DB1E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592-4A55-4EA3-B651-EC8B84C0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D0B6-3E0E-4490-980B-50473FC5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FDD9-4D57-4B8E-89A7-0B5C9EDC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58DEA-E523-4371-B5AE-13E52FDC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49038-64B2-4A06-9D91-0D56FE20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C2FEB-F84A-4259-95B2-1F25931F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9BFAC-78FB-4337-B44A-3F1F8718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57009-F84C-4C99-ACD8-B971CABB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B7A58-A69B-43A9-9081-054026D8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563AD-9FF1-4326-BE41-1503DB90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70A3-EA83-4FC4-8F1F-974B1A15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69029-163A-4504-A00B-130D7C6F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983E6-ADD2-46B5-B1B0-411535C0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411B5-2A5F-4676-BCDC-D8A3652F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65782-DEBF-4E0E-878F-C0C62EBD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5897C-766A-426F-AD6C-ECBACE82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A62D-66EF-4085-9C03-95E16CAB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9A88-DC25-4754-A61D-CF49365D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C37-A87C-4552-AF25-20015ADC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451-6F09-4CDA-A578-DAEB6436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5E4-C0A0-4815-8E33-BE21CA32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5F70-DCCA-4B4F-91D2-18DACAD6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E22-9BB5-4288-9015-CAD8EF55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0B4E-0CE6-4D02-A42E-8E03219A36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AF92-C194-4C68-85CD-ABC2158D06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895480" y="13716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ff33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ОРЫ</a:t>
            </a:r>
            <a:endParaRPr b="0" lang="en-US" sz="2400" spc="1" strike="noStrike">
              <a:ln cap="sq" w="12600">
                <a:solidFill>
                  <a:srgbClr val="ff33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258560" y="1980720"/>
            <a:ext cx="7885080" cy="4543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Arial"/>
              </a:rPr>
              <a:t>Абсолютная высота – расстояние по вертикали от уровня моря до данной точки – не всегда самое главное в характеристике гор.Часто важнее высота относительная, показывающая, насколько вершина горы возвышается над её подножием, а не над уровнем далёкого моря. С этим тесно связано и такое понятие, как глубина расчленения. Оно определяется средними значениями относительных высо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Arial"/>
              </a:rPr>
              <a:t>Многие горы отчасти затоплены морем, и тогда их относительная высота фактически становится больше абсолютной.Такими горами с едва выступающими над водой вершинами является многие острова в океане. Например, Скандинавские горы круто  обрываются к океану на Севере Европы.Они невысоки: их вершины поднимаются не более чем на 1000 –2000 метра над уровнем мо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248520" y="152280"/>
            <a:ext cx="2743200" cy="1809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1371600" y="3049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Высота абсолютная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и относительная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1447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600200" y="-380880"/>
            <a:ext cx="7086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всё выше и выше.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Впечатление второе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2133720"/>
            <a:ext cx="762012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оры – это не просто множественное число от слова «гора», не просто отдельные вершины, возвышающиеся среди ровного пространства. Каменные гиганты срослись между собой – «по колено», «по пояс», «по грудь».По мере продвижения в глубь гор местность заметно повышается; вершины располагаются как бы на мощном пьедестал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о время подъёма можно сделать для себя несколько интересных открытий.Первое – земля как бы наклонилась, повернулась, стала боком. Второе – панорама гор становится похожей на декорации исполинского спектакля, меняющиеся ежечасно, ежеминутно по мере подъёма на высоту. Третье – на горном склоне можно соприкоснуться с тем материалом, который слагает земную кору  и на равнине обычно скрыт почвой, растительностью, асфальт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600" y="1980720"/>
            <a:ext cx="7772400" cy="4496040"/>
          </a:xfrm>
          <a:prstGeom prst="rect">
            <a:avLst/>
          </a:prstGeom>
          <a:solidFill>
            <a:srgbClr val="7662f0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ршины располагаются не беспорядочно, а выстраиваются в шеренгу в вид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орных гребней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убчатые очертания которых то здесь, то там мелькают на горизонте. Гребни, протянувшиеся на десятки километров , образуют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орные хребт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От самых высоких хребтов идут в разные стороны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трог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более низкие хребты. Нередко расходятся хребты – это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орный узел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колько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ребтов следующих друг за другом одна вершина господствует над окружающими, а от неё в одном направлении , формируют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орную цеп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, протяжённость которой может достигать несколько сотен километ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рные страны в свою очередь объединяются в ещё более грандиозные «сооружения» -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орные пояс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иболее значительные – Альпийско-Гималайский и Андийско-Кордильерск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5120" y="457200"/>
            <a:ext cx="678168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Вид сверху.</a:t>
            </a:r>
            <a:endParaRPr b="0" lang="en-US" sz="2400" spc="1" strike="noStrike">
              <a:ln cap="sq"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Разнообразие гор</a:t>
            </a:r>
            <a:endParaRPr b="0" lang="en-US" sz="2400" spc="1" strike="noStrike">
              <a:ln cap="sq"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495680"/>
          </a:xfrm>
          <a:prstGeom prst="rect">
            <a:avLst/>
          </a:prstGeom>
          <a:solidFill>
            <a:srgbClr val="7662f0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Есть горны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траны, которые имеют специальное наименование –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нагорье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Его употребляют , когда и хребты, и разделяющие их впадины располагаются на пьедестале.Часто нагорья отгорожены от окружающих равнин и морей ещё более высокими горными цепями. Всё вместе напоминает город на возвышении, укреплённый крепостными стенами. Нагорье – замкнутый, обособленный мир, жизнь в котором течёт по своим закона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362320" y="304920"/>
            <a:ext cx="5790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ГОРЬЯ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504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54080" y="1600200"/>
            <a:ext cx="4032360" cy="4495680"/>
          </a:xfrm>
          <a:prstGeom prst="rect">
            <a:avLst/>
          </a:prstGeom>
          <a:solidFill>
            <a:srgbClr val="648bee"/>
          </a:solidFill>
          <a:ln w="9360">
            <a:solidFill>
              <a:srgbClr val="648bee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ы с абсолютными высотами вершин 500-1500 м относят к низким, а образуемые ими массивы, хребты и цепи называют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низкогорьями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Часто они поодиночке или разрозненными группами разбросаны в пределах обширных равни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асто низкогорья образуют нижнюю ступень» горной лестницы», которая располагается у подножья более высокого массива. Это могут быть невысокие хребты или плосковерхие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прилавки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ли же огромные валы с пологими склонами –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адыр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09680" y="22860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ИЗКОГОРЬЯ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84440"/>
            <a:ext cx="403236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600200" y="457200"/>
            <a:ext cx="685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8000"/>
                  </a:solidFill>
                  <a:miter/>
                </a:ln>
                <a:solidFill>
                  <a:srgbClr val="fffb13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Высокогорья</a:t>
            </a:r>
            <a:endParaRPr b="0" lang="en-US" sz="2400" spc="1" strike="noStrike">
              <a:ln cap="sq" w="9360">
                <a:solidFill>
                  <a:srgbClr val="008000"/>
                </a:solidFill>
                <a:miter/>
              </a:ln>
              <a:solidFill>
                <a:srgbClr val="fffb13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537080" cy="2663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5909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420200"/>
            <a:ext cx="4716360" cy="45745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ысокие горы обычно труднодоступны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Если вершины поднимаются до 4000-6000 м и более, такие относительные высоты называются высокогорьем. Природные пояса в высоких горах не соответствуют в точности в природе северных территорий. Не леса, не луга, не льды господствуют в этом мире, а скалы и каменные развалы. Жизнь ютится по расселинам среди скал, на склонах и на редких ровных площадках в долинах рек. Ледники длинными узкими языками сползают вниз по долинам на 1000, 2000, иногда и на 3000 м ниже вечных снег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066680" y="304920"/>
            <a:ext cx="7620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Горные склоны</a:t>
            </a:r>
            <a:endParaRPr b="0" lang="en-US" sz="24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1197000"/>
            <a:ext cx="709308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ельеф планеты в сущности состоит из множества склонов. Горные склоны различаются своей крутизной, высотой и протяжённостью. Какой из них крутой, какой пологий? Ответить на этот вопрос можно по-разному. Подъём по горному склону, крутизна которого более 10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 невозможен для тяжело гружённой автомашины; если склон круче 25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 останавливается навьюченная лошадь. По склону круче 35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человеку приходится взбираться с помощью рук, на склон круче 45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неподготовленному лучше вообще не подниматьс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Чтобы уяснить характерные особенности склонов гор, надо рассматривать их профиль. Если крутизна плавно нарастает от подножия к вершине, профиль образует вогнутую дугу – это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вогнутый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склон. У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выпуклого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клона крутизна к вершине соответственно уменьшается. Если ровные площадки на склоне чередуются с крутыми уступами, его называют –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ступенчаты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07:14:34Z</dcterms:created>
  <dc:creator>User</dc:creator>
  <dc:description/>
  <dc:language>en-US</dc:language>
  <cp:lastModifiedBy>1</cp:lastModifiedBy>
  <dcterms:modified xsi:type="dcterms:W3CDTF">2007-07-17T13:09:51Z</dcterms:modified>
  <cp:revision>23</cp:revision>
  <dc:subject/>
  <dc:title>Презентация PowerPoint</dc:title>
</cp:coreProperties>
</file>