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4E12-4040-4982-A625-FCEF21674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CC06-1E36-4841-8869-FF970531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5ED6-E592-4741-8432-068012741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4B13-EDA5-4D78-8318-46A67A8CB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E2D3-7FB3-4929-9D48-382B7EC50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0560-90A8-4604-B796-6480A3F4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B55D-9313-44BE-910B-B889642A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3B0D-DCA0-403C-8FF1-5F3F9411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3DA8-881F-47D1-85CD-7D81B4AF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6EEC-832D-450A-BDAA-9CE100B3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25F8-D34F-4DA5-B8D6-1992F4F1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15AD-70A7-4456-8D2C-33C4A961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2D64-A6A5-40EE-B992-477931D5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1F3B-031C-49AD-95CD-271F784E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5FD7-E587-4DD4-934A-3A39B231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F2DA-1BB2-41F3-A33D-E64EDC301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0936-D52F-4790-905C-67A1E0344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7F4CB-8C7B-48C2-8769-F5F6D4365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8F51C-CC7C-4AA8-B43E-A37C95F4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B6286-E35A-49F7-A935-A29663CD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DA6B0-DD10-4504-B0A8-41F2BA8E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FD711-2A58-40B1-93F3-CF2ADC5C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5555-FD1A-4620-BADD-7485EF1F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CFED6-BFC8-47C8-AE31-D8DDB7B8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6FA62-677C-4923-B68F-104B3294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4C9FD-3B94-4ECA-B861-A43BB5E1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68618-D12C-4412-A3CB-E4DE45C2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4847F-4CCE-4364-9CDA-10C379F9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A8BAC-3064-4EA0-AC52-1936D3749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14FC8-13BD-4436-AB70-6A716BBA3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64562A-E3D9-41F1-9402-F9B09BF3D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BE0769-8C31-42B8-98AC-8D348D20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CB3914-CD81-482E-A670-D4342C7F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4451-1358-4052-8928-08A8327A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8743E6-E810-4816-B7A1-B8663BAE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B5D342-E59C-4427-9860-0A55731F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7AC104-D81F-4444-803E-983B7541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BB7809-B75C-4CBB-8DD9-2329DA17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3B72AD-EF5E-477D-9A6F-2F45A816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66A0AE-30BF-4457-A926-8A3536E8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C631ED-4A16-4993-BF20-D0189640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E84A57-1AC7-4CB5-AE39-CEC3573E5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2C2245-FE1C-4D00-8C3C-DA86C2D91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9DB26-CF63-4FAB-B3A1-38EC3508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1F1B-0ACD-4FD1-A53D-4DC749AA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3E81B-B934-4BDE-916A-8A96B714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85B58-9916-4765-8663-B86F4A0A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C5F91-667A-4C15-9613-88BF4FFC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37401-7B53-48C6-80A9-4262D12A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41480-EA58-474B-96EC-9E6DA00C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3A88D-1716-4D94-8CF1-DE1FAF39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129E3-0867-48FB-B7F0-67C45493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C3B2F-AAB8-4F76-AD9E-9266CBD7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C03FF-01FB-4476-B099-79F9F5A1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4E3C3-EBFF-4E63-9346-304E8D4AA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B1F8-0055-41CC-A67D-651061FE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D06DF-5401-4F7E-B323-C6D92D685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A4BA-01E0-454A-A617-F55A55E6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402A-A73C-46E6-B236-00D7AD53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4C8F-9845-409F-A827-663C6166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FC27-CF95-41FE-A14A-ED8EA82FF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2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EE70-F066-4EAF-90AB-6C83B5C4FF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9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44F8-F355-4E7B-920D-AA9DBE6C60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36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sldNum" idx="1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67C4-292E-4E7F-804C-40193AD679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1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ftr" idx="1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393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D94E-5709-42C5-B44F-5A027E4C8F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4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СПОМНИТЕ ОПРЕДЕ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Абсолютная влажность воз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Относительная влажность воз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Что называется облаками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Какие бывают облака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Из каких облаков выпадают осадки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Какие облака предвестники плохой пого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САДКОМЕ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>
            <a:off x="0" y="155736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ЛИНДРИЧЕ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227640" y="1574640"/>
            <a:ext cx="3130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АНАВЛИВ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СОТЕ 2М 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ЛИЧЕСТВО  ОСАДКОВ (мм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.Перм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0" y="1844640"/>
          <a:ext cx="9390240" cy="2532240"/>
        </p:xfrm>
        <a:graphic>
          <a:graphicData uri="http://schemas.openxmlformats.org/drawingml/2006/table">
            <a:tbl>
              <a:tblPr/>
              <a:tblGrid>
                <a:gridCol w="611280"/>
                <a:gridCol w="833400"/>
                <a:gridCol w="722160"/>
                <a:gridCol w="723960"/>
                <a:gridCol w="720720"/>
                <a:gridCol w="722520"/>
                <a:gridCol w="722160"/>
                <a:gridCol w="722160"/>
                <a:gridCol w="722520"/>
                <a:gridCol w="723960"/>
                <a:gridCol w="720720"/>
                <a:gridCol w="658800"/>
                <a:gridCol w="785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в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ю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ю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0" name=""/>
          <p:cNvSpPr/>
          <p:nvPr/>
        </p:nvSpPr>
        <p:spPr>
          <a:xfrm>
            <a:off x="447840" y="229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20600" y="2060640"/>
            <a:ext cx="459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950760" y="4653000"/>
            <a:ext cx="75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СОТА  СНЕЖНОГО ПОКРОВА  55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строить диаграмму количества  осадков г.Перми(по примеру рис.84 стр.14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  С  А  Д  К  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 ОСАДКИ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  ЗНАЕТЕ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4535640" y="1484280"/>
            <a:ext cx="4608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    С     А     Д     К     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ИДКИЕ                 ТВЕРД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4572000" y="1773360"/>
            <a:ext cx="4572000" cy="508464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4572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1386720" y="777960"/>
            <a:ext cx="623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ТМОСФЕРНЫЕ    ОСАД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0" y="3586320"/>
            <a:ext cx="1011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ОДА  В ТВЕРДОМ  ИЛИ  ЖИД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СТОЯНИИ , ВЫПАДАЮЩАЯ  И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БЛАКОВ ИЛИ ВЫДЕЛЯЮЩАЯСЯ И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ОЗДУХА НА ЗЕМНУЮ ПОВЕРХНО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ЛИ ПРЕДМЕ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ЖИДКИЕ                 ТВЕРДЫ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ОЖД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О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ОРО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536720" y="1655280"/>
            <a:ext cx="41036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РА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РУП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НЕ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МОРО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ОЛОЛЕ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0" y="412920"/>
            <a:ext cx="976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239840" y="26510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1" name=""/>
          <p:cNvGraphicFramePr/>
          <p:nvPr/>
        </p:nvGraphicFramePr>
        <p:xfrm>
          <a:off x="0" y="333360"/>
          <a:ext cx="9143640" cy="6264360"/>
        </p:xfrm>
        <a:graphic>
          <a:graphicData uri="http://schemas.openxmlformats.org/drawingml/2006/table">
            <a:tbl>
              <a:tblPr/>
              <a:tblGrid>
                <a:gridCol w="2285640"/>
                <a:gridCol w="2286000"/>
                <a:gridCol w="2286000"/>
                <a:gridCol w="2286000"/>
              </a:tblGrid>
              <a:tr h="14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АД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Ж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Е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какой погод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ако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 г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каки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ла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МЕРЫ  И ПОГОДНЫЕ УСЛОВ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ЖДЬ капли  диаметро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0,5 до 5-7м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ыпадает  при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выше  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УМАН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пли  диаметро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0,05 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НЕГ    выпадает пр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ниже  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РАД   образуется  пр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ниже  -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-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7:39:03Z</dcterms:created>
  <dc:creator>kostyarik</dc:creator>
  <dc:description/>
  <dc:language>en-US</dc:language>
  <cp:lastModifiedBy>kostyarik</cp:lastModifiedBy>
  <dcterms:modified xsi:type="dcterms:W3CDTF">2005-03-16T19:05:42Z</dcterms:modified>
  <cp:revision>7</cp:revision>
  <dc:subject/>
  <dc:title>О    С     А     Д     К     И</dc:title>
</cp:coreProperties>
</file>